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7603-829F-45A2-964B-523EF365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6B11-51F6-4AE2-AD7B-011CDC4A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C481-405F-4C0A-A947-A7E4FD5F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AC4D-29CD-4B92-AD90-A2C43290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9B1D-6379-4B76-9B20-31F0EDD3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3F83-880E-4A0B-BCF3-D8668FED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F7AD-06DE-4910-BACA-E7983421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E23D-F807-49DF-99C4-FFA7A4DA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196F-980E-4921-8D2E-99A6CE29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DF3D-9E88-41C2-88BA-95281944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4BE5-E74A-4E65-B3DE-8BAFB35D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CF3A-50A9-49C7-9F04-C4CB586B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E5E8-3E26-4121-8FD2-D8438A9E1B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nfo@mon.gov.ru" TargetMode="External"/><Relationship Id="rId2" Type="http://schemas.openxmlformats.org/officeDocument/2006/relationships/hyperlink" Target="http://fgosreestr.ru/" TargetMode="External"/><Relationship Id="rId3" Type="http://schemas.openxmlformats.org/officeDocument/2006/relationships/hyperlink" Target="http://fgosreestr.ru/" TargetMode="External"/><Relationship Id="rId4" Type="http://schemas.openxmlformats.org/officeDocument/2006/relationships/hyperlink" Target="http://fgosreestr.ru/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  О у/о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государственный образовательный стандарт образован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 с умственной отсталостью (интеллектуальными нарушениям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ПР </a:t>
            </a:r>
            <a:r>
              <a:rPr b="1" lang="ru-RU" sz="4400" spc="-1" strike="noStrike">
                <a:solidFill>
                  <a:srgbClr val="898989"/>
                </a:solidFill>
                <a:latin typeface="Calibri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 программа развит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7920"/>
            <a:ext cx="822960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333360"/>
          <a:ext cx="8229600" cy="6308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52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Индивидуальный учебный пла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ИУП отражает учебные предметы, коррекционно-развивающие занятия, внеурочную деятельность, соответствующую уровню актуального  развития школьника. На основании этого устанавливается объем недельной образовательной нагрузк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держание образовательной программ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от раздел включаются все обучающие курсы и учебные предметы, а также прогнозируемые успехи учащегося. Изменения в СИПР могут вноситься по итогам текущих или промежуточных аттестаций. Учебные задачи ставятся сроком на год, затем экспертная группа оценивает успехи учащегося и вносит соответствующие корректировки как в сам СИПР, так и рабочую программу учителя-дефектолога в школе по ФГОС для детей с У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7920"/>
            <a:ext cx="822960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404640"/>
          <a:ext cx="8229600" cy="6380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93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ловия реализации СИП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я реализации образовательной деятельности может потребоваться комплекс мер, направленных на обеспечение хозяйственно-бытового обслуживания ребенка с умственной отсталостью, а также ряд материалов (подгузники, одноразовые перчатки, мыло, полотенца, влажные салфетки и т.д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случае невозможности школьника самостоятельно передвигаться, учебное учреждение составляет график деятельности и закрепляет за учеником работника, который будет сопровождать его в процессе обуче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чень специалистов, ответственный за разработку и реализацию СИП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данный перечень следует включить психолога, логопеда, учителя-дефектолога, социального педагога, медработников и ответственных учител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269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грамма сотрудничества специалистов школы с родителями или законными представителями ребен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эту программу включаютс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сультации по вопросам психолого-педагогической помощи ученик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ие родственников в разработке специальной программ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гласование единых подходов к воспитанию и развитию ребенка с УО в условиях дома и школ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ние предметно-развивающей среды в домашних услови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ение родителей со специалистами посредством телефона, интерне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476280"/>
          <a:ext cx="8229600" cy="5608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5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еречень тематических средств общего и индивидуального назнач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 СИПР для детей с умеренной или тяжелой умственной отсталостью могут быть включены следующие технические средства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одъемник, вертикализатор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ртопедическое кресло, кресло-коляск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игрушки со звуковыми и световыми эффектам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имнастический мяч, коврики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редства для фиксации конечностей и голов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ства мониторинга и оценки динамики обуч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чень оценочных показателей, применение которых показано не реже одного раза в полугоди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дивидуальный учебный пла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различать учебный план организации, реализующей второй вариант АООП образования обучающихся с умственной отсталостью (интеллектуальными нарушениями), и индивидуальный учебный план (ИУП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включает две части: I - обязательная часть, включающая шесть образовательных областей, представленных десятью учебными предметами; II - часть, формируемая участниками образовательного процесса, включающая коррекционные занятия и внеурочные мероприятия. Объем для частей определен стандартом соответственно 60% и 40%. Вместе с тем указанный объем относится к АООП в целом, но не к СИПР, который имеет свою структуру (п. 2.9.1 приложения ФГОС О у/о), включающую индивидуальный учебный пла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7920"/>
            <a:ext cx="822960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УП отражае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ы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бучающегося учебные предметы, коррекционные занятия, внеурочную деятельность и устанавливает объем недельной нагрузки на обучающегося. ИУП включает индивидуальный набор учебных предметов и коррекционных курсов, выбранных из общего учебного плана АООП, с учетом индивидуальных образовательных потребностей, возможностей и особенностей развития конкретного обучающегося с указанием объема учебной нагруз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рганизации образования на основе СИПР список предметов и коррекционных курсов, включенных в ИУП, а также индивидуальная недельная нагрузка обучающегося могут варьироваться. ИУП детей с наиболее тяжелыми нарушениями развития, образовательные потребности которых не позволяют осваивать предметы основной части учебного плана АООП, как правило, включают занятия коррекционной направлен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9080"/>
            <a:ext cx="822960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аких обучающихся учебная нагрузка формируется следующим образо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ся количество часов коррекционных курсов и добавляются часы коррекционно-развивающих занятий в пределах максимально допустимой нагрузки, установленной учебным планом АООП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с менее выраженными интеллектуальными нарушениями больший объем учебной нагрузки распределится на предметные обла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дети, испытывающие трудности адаптации к условиям обучения в группе, могут находиться в организации ограниченное время, объем их нагрузки также лимитируется ИУП и отражается в расписании занятий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09080"/>
            <a:ext cx="822960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бразования на основе СИПР включает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конкретных образовательных задач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ых (планируемых) результатов образования обучающегося, которые отобраны из содержания учебных предметов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ых занятий и других программ (формирование базовых учебных действий; нравственное воспитание; формирование экологической культуры, здорового и безопасного образа жизни обучающихся; внеурочной деятельности), представленных в АООП с учетом актуальности отобранных образовательных задач для данного конкретного обучающегося, которые актуальны для образования конкретного обучающегося и включены в его индивидуальный учебный план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образования формулируются в СИПР в качестве возможных (планируемых) результатов обучения и воспитания ребенка на один учебный г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урочная деятельность в структуре СИПР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а планом мероприятий внеуроч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реализация осуществляется в ходе проведения внеурочных мероприятий, таких как: игры, экскурсии, занятия по интересам, творческие фестивали, конкурсы, выставки, соревнования («веселые старты», олимпиады), праздники, лагеря, походы, реализация доступных проектов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урочная деятельность происходит преимущественно в групповой форме и призвана способствовать общему развитию и социальной интеграции обучающихся путем организации и проведения мероприятий, в которых предусмотрена совместная деятельность детей с нарушениями развития и обучающихся, не имеющих ОВЗ, из различных организац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совместной внеурочной деятельности необходимо подбирать с учетом возможностей и интересов как обучающихся с нарушениями развития, так и их обычно развивающихся сверстников. Для результативного процесса интеграции в ходе внеурочных мероприятий важно обеспечить условия, благоприятствующие самореализации и успешной совместной деятельности для всех ее участни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ы, участвующие в разработке и реализации СИП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ая работа с ребенком проводится разными специалистами. Согласно требованиям к кадрам ФГОС образования обучающихся с интеллектуальными нарушениями, в реализации АООП участвует междисциплинарный состав специалистов (педагогические, медицинские и социальные работники), компетентный в понимании особых образовательных потребностей обучающихся, который в состоянии обеспечить систематическую медицинскую, психолого-педагогическую и социальную поддержк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писке специалистов, участвующих в разработке и реализации СИПР, обычно: учитель класса и/или предмета (музыки, физкультуры/адаптивной физкультуры, технологии и др.), учитель-логопед, учитель-дефектолог, педагог-психолог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мониторинга и оценки динамики обуч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результатов обучения проводится один раз в полугод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мониторинга реализации СИПР участники экспертной группы оценивают уровень сформированности представлений, действий/операций, определенных индивидуальной программой. Например: «выполняет действие самостоятельно», «выполняет действие по инструкции» (вербальной или невербальной), «выполняет действие по образцу», «выполняет действие с частичной физической помощью», «выполняет действие со значительной физической помощью», «действие не выполняет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е результаты образования за оцениваемый период оформляются описательно в форме характеристики за учебный год. На основе итоговой характеристики составляется СИПР на следующий учебный перио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первого полугодия по итогам мониторинга экспертной группой в случае необходимости могут быть внесены изменения в СИПР. В конце учебного года на основе анализа данных на каждого учащегося составляется характеристика, делаются выводы и ставятся задачи для СИПР на следующий учебный го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ная экспертной группой СИПР, а также внесение в нее изменений принимается педагогическим советом образовательной организации и утверждается приказом руководите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80360"/>
            <a:ext cx="822960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ИНИСТЕРСТВО ОБРАЗОВАНИЯ И НАУКИ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МИНОБРНАУКИ РОССИИ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МИНИСТ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ерская ул., д. 11, Москва, 1259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1 марта 2016 г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(495) 539-55-19 Факс (495) 629-08-9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info@mon.gov.ru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ведении ФГОС ОВЗ 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реализации Плана действий по обеспечению введения федерального государственного образовательного стандарта начального общего образования обучающихся с ограниченными возможностями здоровья и федерального государственного образовательного стандарта образования обучающихся с умственной отсталостью (интеллектуальными нарушениями) (далее - ФГОС ОВЗ), утвержденного 11 февраля 2015 г. за № ДЛ-5/07вн, Минобрнауки России направляет методические рекомендации по вопросам внедрения ФГОС ОВЗ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разработаны ГБОУ ВПО «Московский городской психолого-педагогический университет» (государственный контракт на выполнение работ для государственных нужд № 07.028.11.0005 от 11 апреля 2014 г.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аем дополнительное внимание, что примерные адаптированные основные общеобразовательные программы, разработанные в соответствии с ФГОС ОВЗ, размещены на сайте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fgosreestr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.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r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учебного года на основе анализа данных на каждого учащегося составляется характеристика, делаются выводы и ставятся задачи для СИПР на следующий год. В целях информирования о результатах обучения детей их родителям (законным представителям) направляется информационное письмо, отражающее содержание предоставленной в течение учебного года психолого-педагогической помощи ребенку, динамику развития и оценку сотрудничества учреждения и семьи по вопросам воспитания и обучения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д обучающегося на следующую ступень осуществляется максимально приближенно к возрас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 и науки Российской Федерации Государственное бюджетное образовательное учреждение высшего профессионального образования «Московский городской психолого-педагогический университет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по вопросам внедрения федерального государственного образовательного стандарта началь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 с ограниченными возможностями здоровья и федерального государственного образовательного стандарта образования обучающихся с умственной отсталостью (интеллектуальными нарушениям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зработаны в рамках Государственного контракта от «10» апреля 2014 г. № 07.028.11.0005 «Повышение квалификации руководителей и педагогов обще­образовательных и специальных (коррекционных) школ по вопросам реали­зации федерального государственного стандарта обучающихся с ограничен­ными возможностями здоровья в условиях общеобразовательной и специаль­ной (коррекционной) школы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87920"/>
            <a:ext cx="822960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ФГОС О у/о применительно к варианту 2 АООП имеет свои особенности в связи с требованием к индивидуализации образования, учитывающего специфические образовательные потребности данной категории обучаю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в образовательную организацию, реализующую АООП для обучающихся с умственной отсталостью (интеллектуальными нарушениями), вариант 2 осуществляется на основании: заявления родителей (законных представителей), рекомендаций ПМПК и ИПРА (для детей с инвалидностью), особенно важно, чтоб в последних были рекомендации по предоставлению услуг ассистента (помощника), оказывающего обучающемуся не­обходимую техническую помощь. В соответствии с требованиями ФЗ № 273 при приеме обучающихся образовательная организация знакомит родителей (законных представителей) обучающихся с уставом образовательной организации и локальными актами, регламентирующими образовательную деятель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исление ребенка в образовательную организацию происходит на основании приказа руководителя образовательной организации после приема от родителей (законных представителей) ребенка документов, установленных законодательством Российской Фе­дер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7920"/>
            <a:ext cx="822960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ступлении ребенка в образовательную организацию специалисты знакомятся с ним и его семьей (законными представителями), проводят психолого-педагогическое обследование с целью последующей разработки СИПР и создания оптимальных условий ее реализ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психолого-педагогического обследования ребенка участвуют все специалисты, которые составляют и реализуют СИПР, например: учитель класса, учитель му­зыки, физкультуры, учитель-логопед, учитель-дефектолог, педагог-психолог и др. Результаты обследования отражаются в протоколах консилиума образовательной организации и обсуждаются командой специалистов при участии родителей (законных представителей)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результатов психолого-педагогического обследования составляется характеристика, включающая оценку развития обучающегося, имеющихся у него навыков и умений на момент проведения обследования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ставлении характеристик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ть общих фра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мечая особенности ребенка. В структуру характеристики включае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7920"/>
            <a:ext cx="822960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картина (семейное окружение; бытовые условия семьи; отношение членов семьи к ребенку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данные о физическом здоровье, двигательном и сенсорном развитии ребен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проявления познавательных процессов: восприятия, внимания, памяти, мышл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сформированности устной речи и речемыслительных операц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поведенческих и эмоциональных реакций ребенка, наблюдаемых специалистами; характерологические особенности личности ребен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ь социально значимых навыков, умений: коммуникативные возможности, игра, интеллектуальные умения: счет, письмо, чтение, содержание представлений об окружающих предметах, явлениях, самообслуживание, предметно-практическая деятель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уходе и присмотре. Необходимый объем помощи со стороны окружающих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/частичная, постоянная/эпизодическа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 по итогам обследования: приоритетные образовательные области, учебные предметы, коррекционные занятия для обучения и воспитания в образовательной организации, в условиях надомного обуч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ая характеристика является итогом психолого-педагогического обследования ребенка, представляет собой оценку его актуального со­стояния развития и зоны ближайшего развития, становится основой последующей разра­ботки СИПР и является ее структурным элемент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специальной индивидуальной программы разви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анализа результатов психолого-педагогического обследования ребенка экспертной группой образовательной организации разрабатывается специальная индиви­дуальная программа развития (СИПР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требованиями ФГОС О у/о (п. 2.9.1 приложения ФГОС О у/о) структура СИПР включае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сведения - персональные данные ребенка и его роди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ребенка, составленная на основе результатов психолого-педагогического обследования, проведенного специалистами образовательной организации, с целью оценки актуального состояния развития обучающегося и определения зоны его ближайшего развития (структуру и содержание см. ниже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учебный план, отражающий доступные для обучающегося приоритетные предметные области, учебные предметы, коррекционные курсы, внеурочную деятельность и устанавливающий объем недельной нагрузки на обучающего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актуальных для образования конкретного обучающегося учебных предметов, коррекционных занятий и других программ (формирования базовых учебных действий; нравственного воспитания; формирования экологической культуры, здорового и безопасного образа жизни обучающихся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7920"/>
            <a:ext cx="822960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реализации потребности в уходе (кормление, одевание/раздевание, совершение гигиенических процедур, передвижение) и присмотре (при необходимост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урочная деятельность обучающегося - перечень возможных рабочих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 и мероприятий внеурочной деятельности, в реализации которых он принимае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специалистов, участвующих в разработке и реализации СИП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сотрудничества специалистов с семьей обучающегося, содержащая перечень возможных задач, мероприятий и форм сотрудничества организации и семьи обучающего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X. Перечень необходимых технических средств общего и индивидуального назначения, дидактических материалов, индивидуальных средств реабилитации, необходимых для реализации СИП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   Средства мониторинга и оценки динамики обуч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ИПР для умственно отсталых детей по ФГ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68360" y="1160640"/>
          <a:ext cx="8229600" cy="5578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аздел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одерж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ие свед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сональные сведения о ребенка и его родителях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яснительная запис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аткое описание программной разработки с обоснованием выбранной организационно-педагогической моде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1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арактеристика обучающегося с умственной отсталостью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арактеристика составляется в начале или конце учебного года, включает следующие данны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ведения о семье (социально-бытовые условия, внутрисемейные отношения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азатели психофизического здоровья, коммуникативного, двигательного и сенсорного развития — ключевые показатели, определяющие содержание СИПР на ребенка с умеренной, глубокой или тяжелой умственной отсталостью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исание поведенческих и эмоциональных реакций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 сформированности познавательных процессов — внимание, памяти, восприятия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азатели экспрессивной и импрессивной реч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формированность социально значимых навыков — способности к коммуникации, игровой деятельности, уровень представлений об окружающем мире, математических представлений, способность к ведению предметно-практической деятельност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требность в уходе и присмотре (при осуществлении гигиенических процедур, приеме пищи, одевании-раздевании), в том числе с целью предупреждения опасных и деструктивных ситуаций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24T04:48:31Z</dcterms:created>
  <dc:creator>lenovo</dc:creator>
  <dc:description/>
  <dc:language>en-US</dc:language>
  <cp:lastModifiedBy>Надежда</cp:lastModifiedBy>
  <dcterms:modified xsi:type="dcterms:W3CDTF">2019-10-28T13:39:28Z</dcterms:modified>
  <cp:revision>32</cp:revision>
  <dc:subject/>
  <dc:title>Слайд 1</dc:title>
</cp:coreProperties>
</file>