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C0E-7E99-4E33-8EED-D57B128CD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BB2B-B59B-47C9-B9FA-4D60BDB04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C72-4C54-45CA-93E6-00605816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1E5-A011-4A73-B1ED-50F60B78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CC5-1024-4DB0-BFDE-6A0796F5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59B-980E-49A1-A397-25E1CAA5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5FE-B5F2-4F92-A830-4B5BF0B2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5D1-C195-4B63-AC4A-7C00412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B63-E33F-4952-94FC-C252CDF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C99-F3C4-4775-A8FE-1AE0814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C0F-C739-4BF5-A843-DF7CB82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0D7-94AB-426E-A9EF-D613BC2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3A2-AED6-44B8-8FE4-BB09985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1E2-591D-40FE-A697-E4D11C6E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DEEB-4EB8-4C2F-B990-DA6358281D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884160" y="450720"/>
            <a:ext cx="7516800" cy="206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Надежда\Downloads\teenager-422197_1920.jpg"/>
          <p:cNvPicPr/>
          <p:nvPr/>
        </p:nvPicPr>
        <p:blipFill>
          <a:blip r:embed="rId2"/>
          <a:stretch/>
        </p:blipFill>
        <p:spPr>
          <a:xfrm>
            <a:off x="1403280" y="2637000"/>
            <a:ext cx="6553440" cy="345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Надежда\Downloads\teenager-422197_1920.jpg"/>
          <p:cNvPicPr/>
          <p:nvPr/>
        </p:nvPicPr>
        <p:blipFill>
          <a:blip r:embed="rId3"/>
          <a:stretch/>
        </p:blipFill>
        <p:spPr>
          <a:xfrm>
            <a:off x="1332000" y="2708280"/>
            <a:ext cx="676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a5f9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БОДНАЯ КОРРЕКЦИОННО-РАЗВИВАЮЩ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125360"/>
          <a:ext cx="8229600" cy="265140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тическое 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Перечень разделов и тем, последовательность их приме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Количество  часов на каждый разд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материально-технического и учебно-методического обеспечения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Интернет-ресур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итература, рекомендуемая для учащего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, использованная при подготовке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a5f9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 (А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ю, что члены моей семьи  часто бывают недовольны мн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ствую,  что как бы я не поступил, все равно будет не та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многое не успеваю сдел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получается, что именно я оказываюсь виноват во всем, что случается в моей семь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в семье я чувствую себя беспомощ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 мне часто приходится нервнич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я попадаю домой, я чувствую себя неуклюжим и нелов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члены семьи считают меня бестолков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я дома, я все время из-за чего-нибудь пережив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я чувствую на себе критические взгляды своей сем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у домой и с тревогой думаю, что еще случилось в мое отсутств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 у меня постоянное ощущение, что еще что-то нужно сдел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редко я чувствую себя лишн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 у меня такое положение, что просто руки опуск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кажется, что если бы я исчез, то никто бы этого не замет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a5f9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ОСНИК  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 мне постоянно приходится сдержив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ешь домой и думаешь, что будешь делать одно, но, как правило, приходится делать совсем друг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подумаю о своих семейных делах, начинаю волнов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м членам семьи бывает неудобно из-за меня перед друзьями и зна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бывает, что хочу сделать хорошо, но получается плох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е у нас в семье не нравится, но я стараюсь этого не показы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рукция:  при согласии с утверждением вопроса необходимо обвести номер в бла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нк опроса А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мера вопросов                 шкалы                      диагностическое зна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 4, 7, 13, 10, 16, 19                 В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, 5, 8, 11, 14, 17, 21                 Т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, 6, 9, 12, 15, 18, 21                 Н                                    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a5f9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ОСНИК  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йная тревога диагностируется в том случае, если количество обведенных кружком ответов в бланке равно или больше диагностического зна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означ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В»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увство вины в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Т»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в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Н»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вно-психическое напря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С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нтегральный показатель семейной тревоги как типового семейного 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оугольник 3" descr=""/>
          <p:cNvPicPr/>
          <p:nvPr/>
        </p:nvPicPr>
        <p:blipFill>
          <a:blip r:embed="rId1"/>
          <a:stretch/>
        </p:blipFill>
        <p:spPr>
          <a:xfrm>
            <a:off x="268200" y="1139760"/>
            <a:ext cx="87296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a5f9f5"/>
          </a:solidFill>
          <a:ln w="9360">
            <a:solidFill>
              <a:srgbClr val="a5f9f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РУППА РИС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7" descr=""/>
          <p:cNvPicPr/>
          <p:nvPr/>
        </p:nvPicPr>
        <p:blipFill>
          <a:blip r:embed="rId1"/>
          <a:stretch/>
        </p:blipFill>
        <p:spPr>
          <a:xfrm>
            <a:off x="450720" y="1238400"/>
            <a:ext cx="82425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РУППА  РИС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463680" y="987480"/>
            <a:ext cx="8242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едагогической запущенностью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оциальной запущен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клонениями в состоянии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  существенных признака понятия «трудные дети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личие отклоняющегося от нормы п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рушения поведения нелегко исправляются и корректиру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ующие особого внимания и участия окружающ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учающиеся, нуждающиеся в особом внимании и участии окружа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адекватная самооц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нутреннее (психологическое ) одиночество, невыраженность, непонятость  друг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егкомыслие, распущенность, беспринцип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тсутствие позитивных жизненных устремлений, антиобщественная направленность поведения (вплоть до воровства, хулиганства, преступл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рудности формирования жизненных ориентиров, идеалов, «кумиров»,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ида на судьбу, конкретных людей за собственные тр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емление избежать давления, правил, норм, требо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иск комфортного существования; эмоционального благополуч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ереживание собственной неудачливости, проблемности, отсутствие  волевого контроля и способности к самообладанию и обладанию ситуац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организованность; склонность к бездел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висимость от других, от ПА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рудности в обучении; ненависть к школе и особое сопротивление педагогическим воздейств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тсутствие адекватных средств и способов поведения в трудных ситуац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грессивность, обидчивость, растормож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тсутствие чувства безопасности (снижен инстинкт самосохран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спытания себя и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увство вины, стыда за неблагополучных родителей (низкий материальный достаток, безработица, асоциальное поведение и т.д.), отсутствие уважения к родител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a5f9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БОДНАЯ  КОРРЕКЦИОННО-РАЗВИВАЮЩ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52640"/>
          <a:ext cx="7800840" cy="5256000"/>
        </p:xfrm>
        <a:graphic>
          <a:graphicData uri="http://schemas.openxmlformats.org/drawingml/2006/table">
            <a:tbl>
              <a:tblPr/>
              <a:tblGrid>
                <a:gridCol w="2317680"/>
                <a:gridCol w="5483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ы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разделов  коррекционно-развивающе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тульный  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ное наименование образовательного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рафы согласования программы  МО, заместителем директора по УВ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иф  утверждения программы  руководителем ОУ с указанием да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 коррекционно-развивающего курса  (Индивидуальная коррекционно-развивающая программа по коррекции, например, отклоняющегося поведе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 И. обучающегося, клас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реализации программ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разработчика, долж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населенного пун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составления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a5f9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ОБОДНАЯ КОРРЕКЦИОННО-РАЗВИВАЮЩ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125360"/>
          <a:ext cx="8229600" cy="548640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я о возрастной группе учащегося, на которого ориентирована програм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я о назначении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, задачи, принципы, на которых строится програм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ностные ориентиры содержания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снование выбранных технологий, средств, методов, форм организации и режим зан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ы представления результатов  (сравнительный анализ, отчет на МО, школьной комиссии по правонарушениям,  ПМПк  школы, выставки, участие обучающегося и т.д. и т.п.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 уровней воспитательных результатов коррекцио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ируемые качества (нравственные  качества, которые необходимо сформирова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тем курса коррекцио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е описание разделов курса, с указанием применяемых форм  коррекционно-развивающе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14:16:44Z</dcterms:created>
  <dc:creator>Надежда</dc:creator>
  <dc:description/>
  <dc:language>en-US</dc:language>
  <cp:lastModifiedBy>Надежда</cp:lastModifiedBy>
  <dcterms:modified xsi:type="dcterms:W3CDTF">2019-12-14T13:38:31Z</dcterms:modified>
  <cp:revision>56</cp:revision>
  <dc:subject/>
  <dc:title>Слайд 1</dc:title>
</cp:coreProperties>
</file>