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B974-0ADA-471F-84FA-8135EA30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CFE9-E66F-4569-A71F-619F7DC5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00E-A90A-4417-86E9-76152C1A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964A-CC13-421E-AD93-7D39FE17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4BE2-9E07-478B-A5DA-F5B1EE07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A636-0571-4CEF-AB23-2D155CF4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BBF1-E09B-4C86-A2E3-CA655642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DC4-6FFF-4501-9AA1-8071F777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B9A-06AF-4F01-BD44-2DDA689D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3B2C-0D81-4AD0-8FAF-7C3374B1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2A9F-B0A3-4AC3-BD1C-778CF6F2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96D-94EF-48B8-BFB6-FE69D4E4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5332-A7B1-40EA-A4D5-536B4627CE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1"/>
          <p:cNvGrpSpPr/>
          <p:nvPr/>
        </p:nvGrpSpPr>
        <p:grpSpPr>
          <a:xfrm>
            <a:off x="658800" y="476280"/>
            <a:ext cx="7819920" cy="6040440"/>
            <a:chOff x="658800" y="476280"/>
            <a:chExt cx="7819920" cy="6040440"/>
          </a:xfrm>
        </p:grpSpPr>
        <p:pic>
          <p:nvPicPr>
            <p:cNvPr id="4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658800" y="476280"/>
              <a:ext cx="7819920" cy="604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85800" y="500040"/>
              <a:ext cx="7772400" cy="600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КОРРЕКЦИОННО-РАЗВИВАЮЩАЯ РАБОТА  С ОБУЧАЮЩИМИСЯ, ИСПЫТЫВАЮЩИМИ ТРУДНОСТИ В УСВОЕНИИ ОСНОВНЫХ  ОБЩЕРАРАЗВИВАЮЩИХ ПРОГРАММ , ПРОЯВЛЯЮЩИМИ НАРУШЕНИЯ ПОВЕДЕНИЯ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42960" y="5929200"/>
            <a:ext cx="78580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680" y="428760"/>
            <a:ext cx="8215200" cy="6000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ями  обучаемости является умственное развитие ученика, т.е. интеллектуальные свойства личности. Обучаемость зависит от качеств ума.  Среди качеств ума различают глубину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оложное качество – поверхностность),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ность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сознанност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гибкость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ртност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устойчивость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стойчивост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самостоятельность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жательност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емость ребенка определяется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звития качеств ума.        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формированности основных компонентов   мыслительной деятельности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 к деятельности (мотив);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обенности эмоционального отношения к деятельности (положительное, отрицательное, индеффирентное) и  его результату (операционный компонент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гуляционный компонент (стремление продолжить работу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витости познавательных процессов: памяти, внимания, восприятия, воображения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пас знаний учащегося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енных, операционных).</a:t>
            </a: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ровень развития деятельности: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сколько понимает и принимает цель и содержание деятельности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держивает ли цель до конца выполнения деятельности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ставляет ли адекватную программу деятель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реализует через практические действия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дит ли допускаемые ошибки и как их исправляет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деляет ли самостоятельно результат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адекватно его оценивает в соответствии с поставленной целью, причем, делает ли он в развернутой речевой форме и насколько самостоятельно. </a:t>
            </a: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иродные особенности психического развития человека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сть использования учащимися своих индивидуально-психологических особенностей, свойства нервной системы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нервной системы имеют генотипическую природу и принимаются как практически неизменные, стабильные характеристики человек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нервной системы: выносливость, работоспособность, помехоустойчивость к раздражителям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оложный полюс – слабость нервной системы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движность  нервной системы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пределяется скоростными характеристмками основных нервных процессов -  возбуждения и торможения ).</a:t>
            </a: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оложный  полюс – инертность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медленное протекание нервных процессов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1428480"/>
            <a:ext cx="8229600" cy="5072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ПОНИЖЕННОЙ ОБУЧАЕМОСТЬЮ:</a:t>
            </a: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бегают поисковой активности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ставят вопросов ни перед собой, ни перед взрослыми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собраны, невнимательны, им трудно принять и тем более удержать задание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ланировать предстоящую деятельность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них нет готовности к волевым усилиям;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решенная задача их не смущает, они не могут оценить результат своего труда;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ботоспособность у этих детей низкая, причем, чем больше нагрузка на интеллект, тем быстрее падает работоспособность. Механическая однообразная работа их утомляет.</a:t>
            </a: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пониженной обучаемости:</a:t>
            </a: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ная степень педагогической, социально-бытовой запущенност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ти, испытывающие временные  трудности в освоении основных общеобразовательных программ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7120" y="1499760"/>
            <a:ext cx="8229600" cy="5357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тавание умственного развития: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граниченность запаса об окружающем мире, знания даже о близком окружающем отрывочны и бессистемны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едоразвитие познавательных процессов: внимания, памяти, восприятия, мышления (в операционном плане)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есформированность организации деятельности.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тавание в развитии эмоционально-волевой сферы, нравственного развития: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едоразвитие волевых процессов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есформированность  эмоционально-этических норм (правила поведения на уроке,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28440"/>
            <a:ext cx="8229600" cy="5500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поведения в школе, эмоционально-положительное отношение с педагогами, сверстниками, эмоционально-положительное отношение к школе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завышение самооценки и несоответствие реальной оценки возможностей или заниженость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7715520" cy="5857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marL="743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документы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циональная доктрина образования в Российской Федерации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циональная образовательная инициатива «Наша новая школа»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Закон «Об образовании» (ст.42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онвенция о правах ребенка и Протокол №1 Европейской конвенции о защите прав человека и основных своб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зическое развитие:</a:t>
            </a:r>
            <a:br>
              <a:rPr sz="32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ети с повышенной моторной двигательной активностью или наоборот (состояние нервной системы);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дети с ОВЗ (ЗПР с органическим поражением мозга - цеброастеническими состояниями. </a:t>
            </a: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ьный -  мозговой.</a:t>
            </a: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ения – нервно-психическая слабость, возникающая вследствие инфекционных, соматических заболеваний или травматических поражений мозга и проявляющаяся в повышенной утомляемости, раздражительности и сниженной работоспособности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1143000"/>
            <a:ext cx="8229600" cy="3857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ети-инвалиды: с нарушением слуха и речи, с нарушением зрения, дети-олигофрены.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ЫЕ ОСОБЕННОСТИ развития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испытывающими трудности в усвоении основных общеобразовательных програм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ВРЕМЕННОЙ ЗАДЕРЖКОЙ ПСИХИЧЕСКОГО РАЗВИТИЯ: </a:t>
            </a: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дети с психофизическим или только с психическим инфантилизмом и дети, у которых  инфантилизм сочетается с задержкой познавательной деятельности произвольного внимания, логического запоминания, пространственных представлений, восприятия, мышления и д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е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школьных  интересов, плохо  включаются в деятельность, не воспринимают и часто не выполняют домашних заданий. Нет обязательности к выполнению предложенных заданий. С трудом овладевают начальными навыками письма и чтения, т.к. у них недоразвитие способности к осознанному анализу звуковой стороны речи, отсутствием интереса к таким формам абстрактной деятельности, как умение анализировать звуковой состав с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могут понять смысл рассказа, текста, передают его содержание. Такие дети хорошо принимают обучающую помощь. На уроках могут вертеться, отвлекаться, в начальных классах ходить во время урока. Они могут быть болтливыми или, наоборот, застенчивыми. Могут вмешиваться во все и по всякому поводу, делать замечания с детской непосредственностью. В присутствии взрослых держатся непринужденно, не учитываю границу между педагогом и собой. Не переживают, когда получают плохие оценк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для этих детей: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 свойственны черты детей более  младшего возраста,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адержка имеет временный характер (сохранность интеллекта)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о-развивающая работа: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щательно изучить и проанализировать характер затруднений в обучении и поведении такого ребен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ести беседу с родителями и при необходимости рекомендовать им обратиться за консультацией к невропатолог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ставить индивидуальный план работы по коррекции нарушенных функций (коррекцию сочетать с обучением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спользовать положительные стороны ребенка, его склонности и способност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 первых порах дозировать учебный материал с адекватным чередованием видов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еализовать принцип «от простого к сложному», активно используя обучающую помощь. Учить переносить полученные знания в новые условия (дети с ОВЗ и дети олигофрены не делают этого)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Формировать компоненты произвольности деятельности: обязательное проговаривание ребенком цели деятельности, планирование выполнения учебной задачи (сначала проговаривает учитель, затем обучающийся), учебные действия, выделение результата, соотнесение его с учебной задачей и оц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ий компонент не доступен для детей с ОВЗ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Обучение вести на наглядной основе, постепенно развивая способность ребенка к абстрагированию. Для детей с ОВЗ это недоступно. Для всех обозначенных категорий детей немаловажную роль отводить сенсорному развитию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Введение в учебный материал упражнений на развитие познавательных процессов: восприятия, внимания, памяти, операционного мышления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Формирование положительного отношения к учебной деятельност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иказ Министерства образования и науки Российской Федерации от 30.08.2013 № 1015 «Об утверждении порядка организации и осуществления образовательной деятельности по основным общеобразовательным программам – программам начального общего, основного общего и среднего общего образования»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иказ Главного управления образования и молодежной политике Алтайского края от 02.09.2014 № 466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Реализовать игровой метод обучения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Побуждение ученика к выполнению школьных обязанностей.</a:t>
            </a: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ЫЕ ОСОБЕННОСТИ развития детей с ОВЗ: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рушение восприятия и образование понятий. Нарушена способность различать размеры, правую и левую сторону, верх и низ. Часто наблюдаются специфические расстройства чтения, письма, например, «зеркальное» написание букв и чисел. Неумение сопоставить части  и целое.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рушение речи и слухового восприятия (легкое снижение слуха и небольшие неправильности речи)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рушение двигательных функций (неуклюжесть, тики, гримасничание)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рушение мышления. Дети отличаются крайне низкими способностями к абстрактному мышлению, их мышление предельно конкретно. Трудности в образовании понятий, что сочетается с «хаотичным» мышлением. Слабая кратковременная и долговременная память.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ым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«плавающее» мышление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Эмоционально-волевые качества. Высокая импульсивность и возбудимость, которая характеризуется низким уровнем контроля за своим поведением. Такие дети раздражительны, их легко вывести из  равновесия.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рушения в обучении. Нарушение чтения, счета, письма. Отмечаются трудности в организации работы и особенное медленное выполнение ее заключительной части. Часто недочеты в школьной работе могут компенсироваться при выполнении обязательных задани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бщение. Отмечается плохая способность вступать в контакт со сверстниками. раздражительны в играх с нормальными детьми. Лучше чувствуют себя в компании одного или двух детей, чем в большом коллективе. Плохо ориентируются при коллективном решении проблем. Поэтому бывают агрессивными и дерзкими, поведение становится «вызывающим», особенно в состоянии аффекта. Выход из ситуации своеобразен: возникает паническое состоян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убегают. Но, с другой стороны, стремятся к контакту с другими детьми. Они навязчиво ласковы со своими одноклассниками, считая всех остальных источником беспокойств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Социальное поведение. Часто не соответствует ситуации, не способны предвидеть последствия своего поведения (в силу интеллектуального развития). Не признают авторитетов, часто ведут себя по отношению к ним негативно и даже агрессивно, что может выражаться в антиобщественном повед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545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Изменения личности. Характеризуются большой доверчивостью, часто подражают своим сверстникам и старшим товарищам. Озлобленность и раздражительность могут быстро сменяться повышенным вниманием к окружающим. Эти изменения и отношения к окружающим могут происходить с суточным или часовыми интервалами. С трудом мирятся с изменениями, держатся за привычное, но могут быть в общении милыми и нежными, могут охотно сотрудничать и испытывать тягу к положительной оценке их повед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Нарушение сосредоточенности внимания. Часто проявляется чрезмерная рассеянность и нарушена способность концентрации внимания (зависит от возраста). Отсюда возникает моторная и речевая вязкость. Если возникает возможность выбора, дети не радуются, так как они не умеют делать выбор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-ОЛИГОФРЕН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ственное развитие обусловлено поражением определенных мозговых систем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разные степени выраженности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диотия (дети необучаемы)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мбецильность, при которой дети могут освоить некоторые самые несложные виды труда и даже овладеть элементами грамоты (обучаются в спец.школах, в спец.интерната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-дебилы, которые способны в более удлиненные сроки (8 лет) овладеть программой начальной массовой школы и получить профессиональную подготовку по несложным видам труда в промышленности, сельском хозяйстве, а также в сфере бытового обслуживания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развитие произвольных форм движения, косноязычная речь и бедный словарный запас. Они понимают обращенную к ним элементарную речь. Но более слож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оты речи им недоступны. Игры носят стереотипный примитивный характер. В игре не всегда могут действовать соответственно взятой на себя роли, так как недостаточно понимают игровую ситуацию. Интеллектуальная недостаточность выражается в неспособности к отвлеченным обобщениям, к установлению связей и зависимостей между предметами и явлениями окружающей действительности, к их анализу и синте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6572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рганизации психолого-педагогической, медицинской и социальной помощи обучающимися, испытывающими трудности в освоении основных общеобразовательных программ, развитии и социальной адаптации в образовательных организациях Алтайского края»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«Положение об организации психолого-педагогического сопровождения образования детей-инвалидов в общеобразовательных учреждениях Алтайского  края, реализующи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ление имеет наглядно-образный, ситуационный характер и обладает рядом своеобразных черт. Рассматривая предмет, бессистемно выделяет главным образом только наглядно воспринимаемые, резко очерченные несущественные признаки. Они не умеют сравнивать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обых затруднений усваивают порядковый счет, более или менее просчитывают заданный ряд чисел в пределах 10, 20, но с трудом понимают количественное содержание числа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о дифференцируют арифметические знаки «плюс», «минус», путают их названия и смысл связанных с ними действий. Не понимают смысл задачи, не соотносят содержание задачи и ее числовые данные с представлениями с реальными предметами и их взаимоотношениях.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-олигофренов обедненный и суженный круг знаний и представлений об окружающем мире, слабая ориентировка в пространстве, во времени, в обыденной жизн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ительной чертой этих детей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гоподвижность, инертность психических процессов, поэтому они склонны к «застреваниям», к стеретипности в мышлении и действиях. В личностном развитии: не умеют изменять поведение в зависимости от ситуации. Снижено критическое отношение к себе, хотя при легкой степени переживают неуспехи в обучении. </a:t>
            </a: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е: одни возбудимы, импульсивны, недостаточно дисциплинированы. Другие – уравновешенны, спокойны, дисциплинированы. Есть крайне вялые, заторможенные, медлительные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программы начального общего, основного и среднего (полного) общего образования» утвержденного постановлением Администрации алтайского края от 30.01.2013 № 37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КЛЮЗИВНОЕ ОБРАЗОВАНИЕ</a:t>
            </a:r>
            <a:br>
              <a:rPr sz="32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цузское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sif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инское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(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ю, включаю) или включенное образование – термин используемый для описания процесса обучения детей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собыми потребностями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образовательных (массовых) школах.</a:t>
            </a: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клюзивное образование – это совместное обучение и воспитание детей с ограниченными возможностями здоровья (ОВЗ) и детей, не имеющих таких ограничений.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545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ограниченными возможностями здоровья, в большинстве своем,  дети с пониженной обучаемостью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5786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обучаемость? Критерии обучаемости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обучаемость» ввела в 1959 г. психолог Н.А. Менчинская. Она считала, что обучаемость – это общая способность к учению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С. Рубинштейн сформулировал критерии сформированности общей способности к учению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9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щие критерии способности к учению (по Рубинштейну):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, легкость усвоения, быстрота продвижения, широта переноса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в широте переноса проявляется творческий потенциал личност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9T16:25:37Z</dcterms:created>
  <dc:creator>Шмакова</dc:creator>
  <dc:description/>
  <dc:language>en-US</dc:language>
  <cp:lastModifiedBy>Шмакова</cp:lastModifiedBy>
  <dcterms:modified xsi:type="dcterms:W3CDTF">2015-02-01T15:38:38Z</dcterms:modified>
  <cp:revision>80</cp:revision>
  <dc:subject/>
  <dc:title>Слайд 1</dc:title>
</cp:coreProperties>
</file>