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AD1-9F4A-4C8B-BD6F-05D56F4B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C7D-A41E-4B27-9DE2-43A2ACF5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9A8-C460-408C-8A5F-0663DF00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F6F-DFB1-4F4D-BEB9-878765F2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513-E7B7-45C9-9B48-2627B91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0EA-F501-4B42-8373-0EC2E4C1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D9E-CB97-4A53-816E-88F33E36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897-10C6-414C-A7E6-5354B557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4F5-9709-4C17-8AE3-2154FA08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2DC-E249-4733-9061-5F998558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4A0-2BB7-482B-B122-CAE6B82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8AC-97B6-49E7-B257-1EFC82DC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71F-0007-4957-B83C-5E7FDDD39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4608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е особенности работы  по АОП НОО для детей с умственной отсталост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средством реализации деятельностного подхода в образовании является обучение как процесс организации познавательной и предметно-практической деятельности обучающихся, обеспечивающий овладение ими содержанием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деятельностного подхода обеспечива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ние результатам образования социально и личностно значимого характе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е усвоение обучающимися знаний и опыта разнообразной деятельности и поведения, возможность их самостоятельного продвижения в изучаемых предметных област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ое повышение мотивации и интереса к учению, приобретению нового опыта деятельности и пове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условий для общекультурного и личностного развития на основе формирования базовых учебных действий, которые обеспечивают не только успешное усвоение некоторых элементов системы научных знаний, умений и навыков (академических результатов), но и прежде всего жизненной компетенции, составляющей основу социальной успеш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реализации АОП НОО для обучающихся с умственной отсталостью (интеллектуальными нарушениями) составляет 4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формировании основ предметных знаний и умений, коррекции недостатков психофизического развития обуч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характеристика обучающихсяс легкой умственной отсталостью (интеллектуальными наруш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ая отсталость—это стойкое, выраженное недоразвитие познавательной деятельности вследствие диффузного (разлитого) органического поражения центральной нервной системы (ЦНС). Понятие «умственной отсталости» по степени интеллектуальной неполноценности применимо к разнообразной группе детей. Степень выраженности интеллектуальной неполноценности коррелирует (соотносится) со сроками, в которые возникло поражение ЦНС –чем оно произошло раньше, тем тяжелее послед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многочисленную группу среди обучающихся с умственной отсталостью (интеллектуальными нарушениями), примерно три четверти, составляют дети с легкой умственной отсталостью. Развитие ребенка с легкой умственной отсталостью (интеллектуальными нарушениями), хотя и происходит на дефектной основе и характеризуется замедленностью, наличием отклонений от нормального развития, тем не менее, представляет собой поступательный процесс, привносящий качественные изменения в познавательную деятельность детей и их личностную сферу, что дает основания для оптимистического прогноз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мственной отстал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ая         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Q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65 – 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ая  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Q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50 – 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ая      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Q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34 – 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ая     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Q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ую базу разработки АОП НОО обучающихся с умственной отсталостью составляют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Российской Федерации «Об образовании в Российской Федерации» N 273-ФЗ (в ред. Федеральных законов от 07.05.2013 N 99-ФЗ, от 23.07.2013 N 203-ФЗ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образования для обучающихся с умственной отсталост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методические документы Министерства образования и науки Российской Федерации и другие нормативно-правовые акты в области образов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адаптированная общеобразовательная программа, разработанная на основе ФГОС для обучающихся с умственной отсталостью, (одобрена решением федерального учебно-методического объединения по общему образованию, протокол от 22 декабря 2015 г. № 4/15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в образовательной организ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  АОП Н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еализации адаптированной общеобразовательной программы начального общего образован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легкой умственной отсталостью (интеллектуальными нарушениями) - обеспечение выполнения требований Стандар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  АОП Н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поставленной цел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разработке и реализации Организацией АОП НОО предусматривает решение следующи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зада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владение обучающимися с легкой умственной отсталостью (интеллектуальными нарушениями)учебной деятельностью, обеспечивающей формирование жизненных компетен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общей культуры, обеспечивающей разностороннее развитие их личности (нравственно-эстетическое, социально-личностное, интеллектуальное, физическое), в соответствии с принятыми в семье и обществе духовно-нравственными и социокультурными ценност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стижение планируемых результатов освоения АОП НОО обучающимися с легкой умственной отсталостью (интеллектуальными нарушениями) с учетом их особых образовательных потребностей, а также индивидуальных особенностей и возмож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  АОП Н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развитие возможностей и способностей обучающихся  с умственной отсталостью (интеллектуальными нарушениями), через организацию их общественно полезной деятельности, проведения спортивно–оздоровительной работы, организацию художественного творчества и др. с использованием системы клубов, секций, студий и кружков (включая организационные формы на основе сетевого взаимодействия), проведении спортивных, творческих и др. соревнов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педагогических работников, обучающихся, их родителей (законных представителей) и общественности в проектировании и развитии внутришкольной социальной ср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даптированной общеобразовательной программы НОО для обучающихся с легкой умственной отсталостью (интеллектуальными нарушениями)заложены дифференцированный и деятельностный подх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требований Станда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ифференцированный подх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ОП НОО для обучающихся с легкой умственной отсталостью (интеллектуальными нарушениями) предполагает учет их особых образовательных потребностей, которые проявляются в неоднородности возможностей освоения содержания образ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дифференцированного подхода предоставляет обучающимся с умственной отсталостью (интеллектуальными нарушениями)возможность реализовать индивидуальный потенциал разви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ывается на теоретических положениях отечественной психологической науки, раскрывающих основные закономерности и структуру образования с учетом специфики развития личности обучающегося с умственной отсталостью (интеллектуальными нарушения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ый подход в образовании строится на признании того, что развитие личности обучающихся с умственной отсталостью (интеллектуальными нарушениями) школьного возраста определяется характером организации доступной им деятельности (предметно-практической и учебной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УД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14:19:04Z</dcterms:created>
  <dc:creator>Надежда</dc:creator>
  <dc:description/>
  <dc:language>en-US</dc:language>
  <cp:lastModifiedBy>Шмаков Александр</cp:lastModifiedBy>
  <dcterms:modified xsi:type="dcterms:W3CDTF">2023-01-11T15:05:03Z</dcterms:modified>
  <cp:revision>19</cp:revision>
  <dc:subject/>
  <dc:title>Работа педагога по АОП НОО для детей с умственной отсталостью</dc:title>
</cp:coreProperties>
</file>